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DDC6-36CE-474A-8124-CC8F51D1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ing to talk about gene expression databases, and the When and Where aspects of gene express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metaphor well established.  Directory/folder navigation on PCs.  Graphs are not as familiar to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graphs as tress anyway.  Have to communicate to user that what appears as two separate parts of tree are actu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raw them as graphs.  See Mary Dolan’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annotation propagates downward.  Positive information propagates up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ombine annotations when you have extra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S is a different colour here, but it is not significantly different from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even spatial only requires DAG struc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point is 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single assay, a list may make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summarise the whole dataset a tree may work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user is not an expert anatomist.  How do you make interfaces flexible enough to help these users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display 2600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ex do you want your queries to b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aises its ugly head again.  Average user will think that these two queries should two distinct sets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 cover every experiment in the data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out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explain 3-valued logic to web us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going to introduce the issues then talk about some implemented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OR searches, AND searches.  But can’t combine the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t expressed annotations, but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size of ontology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-completion of terms (AJ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lso query from complet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pattern, and how to propagate that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complex anatomy by reducing it to 100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them to specify positive and negative annotation for all 100 terms in the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I/Mary Do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annotation as a graph, drawn on the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ally informative about how the terms are related to each other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 lot of screen space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it take new users to figure this format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andons (almost) text annotation.  Instead of describing expression with words, describe it with 3-D models of embryonic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ene expression images and map them to model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pressed generated as part of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based on what the author says, but rather than what the images s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DMAP/EuR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 with complex Boolean expressions by use of sets and set-based operation.  AND/OR/NOT all supported using intersection, union, dif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complicated form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a tax form quer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blem is to balance flexibility with ease of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complexity / size: see lat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 range: Allows for flexible time win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etected annotations:  ZFIN records them, but you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/All, propoagation both switchable by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ing the user deal with the complex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ed anatomy terms are recorded for later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looked for adaxial cell and noto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ays grouped first by ge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s one of the entries from the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igure 3 from thi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annotations presented as a list, ordered by time and then alphabe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for many assay types the image is the most important piece of source data.  However, ZFIN has decided to annotate publications even where the image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native ways to find this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tomy browser.  Can search for terms, uses Ajax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searched for head across all stages.  Shows me links to gene expression assays that are annotated for each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 particular stage as a tree.  The only time you’ll see a tree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ed about presenting a single assay vs larger datab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thetical fish / Abstract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thing is li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user search for terms using their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lso get to it from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ole point of this slid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!  INTERRUPT!  ASK QUESTION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ctures are not nearly as interesting as discu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what you get if you click the link from the cav3 gen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FIN demonstrates importance of integration.  Everything on this page is hot link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is Gregor Eichele’s chi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 web site that focuses on mouse ISH experiments on sections all produced by the same automated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uses 10 icons to convey different combinations of strength, pattern, and detected / not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key is pulled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ey shows examples of what they mean by each lab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fortunately key is not linked to from results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ry form showing the results of the given query: hox and annotation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you can search by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is not shown, but there are only 5 or terms in the pu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2 st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 of clicking on first entry on 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deals with anatomical complexit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annotating a singl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ing the anatomy ontology for that stage down to 100 or s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et is a tree, not a D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very assay they annotate every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nnotation in a collapsible / expandable tree on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takes 20-24 sections and pictures for each assay, each slicing through a different part of the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each (detected) annotation has a link to an image that supports that annotation.  Clicking on the link changes the thumb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fore I dive into the details of gene expression databases, this is a good time to ask:  Is this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absolute minimu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tell others how to reproduce your results and allow them to make judgement calls on rel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so lays the groundwork for later querying of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 annotations are a challen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has to be followed with qualifier: “In this assay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” is not the same thing as the absence of a “detected” an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cepts of when and where are central to any gene expression datab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out them you can’t answer even the most basic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131-2465-4BB4-A0DB-92371648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1EE-264E-42DB-828E-E3F4407F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B11-95FE-40A6-87D3-9CC7D7A1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A66-4746-4E3C-B5A0-5E803410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7A1F-FF25-45AD-8D2F-D4655D38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BB46-2F1B-44CC-9F5B-275ADED9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3140-6036-4E52-892D-CF2F354C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B8E4-F28D-466C-AE25-21936153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C517-8915-453A-ADA5-8F7863FC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DEAF-B404-45F4-A7F9-46A4B8A5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85BD-B4A1-45F8-A113-C983961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21C-E27F-47D5-912F-C4BED954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4904-71DA-4C22-8B90-A8BFBCCD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708E-F4F8-4948-A787-BE378910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88DD-DFE1-4C55-A786-9C2D774D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C3B4-53AC-4E8C-BD21-7F9435C1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37C4-5B93-4C19-9D36-063C8483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059-52BB-4CDF-B523-B0319E1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BAA-CABA-4AF9-8A7B-1634FC2C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D70-959B-4A8A-946E-993C6F9C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3C7-6AC9-4A47-AA5B-B8B2BDC2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157-D93A-4BE8-801D-8089C89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E6B-99C0-41B0-AFD4-E3DE80A2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CF7-FA3C-4615-B6D4-7D62BA51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73FD-B41E-4BCA-8C08-B444814D8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C28E-2E73-427F-8770-1C997732C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zfin.org/" TargetMode="External"/><Relationship Id="rId2" Type="http://schemas.openxmlformats.org/officeDocument/2006/relationships/hyperlink" Target="http://zfin.org/" TargetMode="External"/><Relationship Id="rId3" Type="http://schemas.openxmlformats.org/officeDocument/2006/relationships/hyperlink" Target="http://zfin.org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genepaint.org/Frameset.html" TargetMode="External"/><Relationship Id="rId2" Type="http://schemas.openxmlformats.org/officeDocument/2006/relationships/hyperlink" Target="http://genepaint.org/Frameset.html" TargetMode="External"/><Relationship Id="rId3" Type="http://schemas.openxmlformats.org/officeDocument/2006/relationships/hyperlink" Target="http://genepaint.org/Frameset.html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patial.maine.edu/~mdolan/GXD_Graphs/" TargetMode="External"/><Relationship Id="rId2" Type="http://schemas.openxmlformats.org/officeDocument/2006/relationships/hyperlink" Target="http://www.spatial.maine.edu/~mdolan/GXD_Graphs/" TargetMode="External"/><Relationship Id="rId3" Type="http://schemas.openxmlformats.org/officeDocument/2006/relationships/hyperlink" Target="http://www.spatial.maine.edu/~mdolan/GXD_Graphs/" TargetMode="External"/><Relationship Id="rId4" Type="http://schemas.openxmlformats.org/officeDocument/2006/relationships/hyperlink" Target="http://www.spatial.maine.edu/~mdolan/GXD_Graphs/" TargetMode="Externa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genex.hgu.mrc.ac.uk/" TargetMode="External"/><Relationship Id="rId2" Type="http://schemas.openxmlformats.org/officeDocument/2006/relationships/hyperlink" Target="http://genex.hgu.mrc.ac.uk/" TargetMode="External"/><Relationship Id="rId3" Type="http://schemas.openxmlformats.org/officeDocument/2006/relationships/hyperlink" Target="http://genex.hgu.mrc.ac.uk/" TargetMode="External"/><Relationship Id="rId4" Type="http://schemas.openxmlformats.org/officeDocument/2006/relationships/hyperlink" Target="http://genex.hgu.mrc.ac.uk/" TargetMode="External"/><Relationship Id="rId5" Type="http://schemas.openxmlformats.org/officeDocument/2006/relationships/hyperlink" Target="http://genex.hgu.mrc.ac.uk/" TargetMode="External"/><Relationship Id="rId6" Type="http://schemas.openxmlformats.org/officeDocument/2006/relationships/hyperlink" Target="http://genex.hgu.mrc.ac.uk/" TargetMode="External"/><Relationship Id="rId7" Type="http://schemas.openxmlformats.org/officeDocument/2006/relationships/hyperlink" Target="http://genex.hgu.mrc.ac.uk/" TargetMode="External"/><Relationship Id="rId8" Type="http://schemas.openxmlformats.org/officeDocument/2006/relationships/hyperlink" Target="http://genex.hgu.mrc.ac.uk/" TargetMode="External"/><Relationship Id="rId9" Type="http://schemas.openxmlformats.org/officeDocument/2006/relationships/hyperlink" Target="http://genex.hgu.mrc.ac.uk/das/jsp/submission.jsp?id=EMAGE:1033" TargetMode="External"/><Relationship Id="rId10" Type="http://schemas.openxmlformats.org/officeDocument/2006/relationships/hyperlink" Target="http://genex.hgu.mrc.ac.uk/das/jsp/submission.jsp?id=EMAGE:1033" TargetMode="External"/><Relationship Id="rId11" Type="http://schemas.openxmlformats.org/officeDocument/2006/relationships/hyperlink" Target="http://genex.hgu.mrc.ac.uk/das/jsp/submission.jsp?id=EMAGE:1033" TargetMode="External"/><Relationship Id="rId12" Type="http://schemas.openxmlformats.org/officeDocument/2006/relationships/hyperlink" Target="http://genex.hgu.mrc.ac.uk/das/jsp/submission.jsp?id=EMAGE:1033" TargetMode="External"/><Relationship Id="rId13" Type="http://schemas.openxmlformats.org/officeDocument/2006/relationships/hyperlink" Target="http://genex.hgu.mrc.ac.uk/das/jsp/submission.jsp?id=EMAGE:1033" TargetMode="External"/><Relationship Id="rId14" Type="http://schemas.openxmlformats.org/officeDocument/2006/relationships/hyperlink" Target="http://genex.hgu.mrc.ac.uk/das/jsp/submission.jsp?id=EMAGE:1033" TargetMode="External"/><Relationship Id="rId15" Type="http://schemas.openxmlformats.org/officeDocument/2006/relationships/hyperlink" Target="http://genex.hgu.mrc.ac.uk/das/jsp/submission.jsp?id=EMAGE:1033" TargetMode="External"/><Relationship Id="rId16" Type="http://schemas.openxmlformats.org/officeDocument/2006/relationships/hyperlink" Target="http://genex.hgu.mrc.ac.uk/das/jsp/submission.jsp?id=EMAGE:1033" TargetMode="External"/><Relationship Id="rId17" Type="http://schemas.openxmlformats.org/officeDocument/2006/relationships/hyperlink" Target="http://genex.hgu.mrc.ac.uk/das/jsp/submission.jsp?id=EMAGE:1033" TargetMode="External"/><Relationship Id="rId18" Type="http://schemas.openxmlformats.org/officeDocument/2006/relationships/hyperlink" Target="http://genex.hgu.mrc.ac.uk/das/jsp/submission.jsp?id=EMAGE:1033" TargetMode="External"/><Relationship Id="rId19" Type="http://schemas.openxmlformats.org/officeDocument/2006/relationships/hyperlink" Target="http://genex.hgu.mrc.ac.uk/das/jsp/submission.jsp?id=EMAGE:1033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ene Expression Database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re and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720" y="40384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c@hgu.mrc.ac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eGene and Mouse Atla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Research Council Human Genetics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ees, DAGs, Li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natomy ontologie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ed acyclic graphs (D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have 1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 or mor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can have multiple 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, 1 or 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ultiple ways to think about an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Tree: Spatial mou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AG: Spatial and Function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724280" y="2286000"/>
            <a:ext cx="0" cy="83808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809880" y="3504960"/>
            <a:ext cx="76212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952520" y="3504960"/>
            <a:ext cx="68580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nnotation in Con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natomy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der DAG as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context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 fla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 user other means to figure out where/what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ick ascending lim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ing assay versus whol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ing annotation up/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 propagat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homogenous / ubiquitous patte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etected propagate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whole mou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propagation be sh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, pattern,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nnotated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this be propag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uch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Query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king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my ontologies can b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TS26 has 2600+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s: OR/any, AND/all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ed, Not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users won’t know what distinguishes stages TS18 and TS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rovide flexibility without swamping them in too much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onfuse them by presenting terms that never coexist in a real spe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at, How, Who, 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s /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bol / Name /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ay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terns, Confidenc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xample Expression Databa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Issues: With a focus on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qu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lement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ample Implemen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integrated basics (I like to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atomy, robust pattern an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by Mary Dolan based on MG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way to show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GUDMAP/EuRe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Booleans via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ZFI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organism database for zebra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zfin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7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267080"/>
            <a:ext cx="182880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905120"/>
            <a:ext cx="3200400" cy="12189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191120"/>
            <a:ext cx="1905120" cy="8380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76720"/>
            <a:ext cx="91440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94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228600" y="1600200"/>
            <a:ext cx="4191120" cy="9907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343400"/>
            <a:ext cx="4191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6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209680"/>
            <a:ext cx="1447920" cy="5335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352680"/>
            <a:ext cx="426708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2971800"/>
            <a:ext cx="807732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Fine Pr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, ask questions, interrup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issues and exist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roposing any new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teresting gene expression topics I am not going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rays, mutants, Cell/Tissue Type Ontology, curation standa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not a 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14600" y="1371600"/>
            <a:ext cx="3962520" cy="6858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GenePa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se ISH Gene Expres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paint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/Framese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ata uses same set of high-throughpu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4520" y="838080"/>
            <a:ext cx="4292640" cy="4343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7473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-152280" y="5486400"/>
            <a:ext cx="3581280" cy="6094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762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523880"/>
            <a:ext cx="99036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0" y="3733920"/>
            <a:ext cx="609480" cy="3045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895480"/>
            <a:ext cx="609480" cy="3049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Mary Dolan’s work with MG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ing expression in a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spatial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maine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edu/~mdolan/GXD_Graph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7080" y="30492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10688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44000" y="1185840"/>
            <a:ext cx="26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een arrows indicate “is_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rple arrows indicate “part_of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38480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280" y="420840"/>
            <a:ext cx="8845560" cy="6437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15840" y="68580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nburgh Mouse Atlas Gene Express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x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hgu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mrc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.ac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tial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http: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//genex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2"/>
              </a:rPr>
              <a:t>hgu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3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4"/>
              </a:rPr>
              <a:t>mrc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5"/>
              </a:rPr>
              <a:t>.ac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6"/>
              </a:rPr>
              <a:t>uk/das/jsp/submission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7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8"/>
              </a:rPr>
              <a:t>jsp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9"/>
              </a:rPr>
              <a:t>?id=EMAGE:103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Record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Original I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original whole mount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men from TS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35400" y="2022480"/>
            <a:ext cx="3418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</a:t>
            </a:r>
            <a:br>
              <a:rPr sz="4400"/>
            </a:b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p to TS11 Model and threshold expr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3017880" cy="3192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493720" cy="4038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01084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1554120" cy="2514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89808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143000" y="4425840"/>
            <a:ext cx="7696080" cy="2051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41000" y="210492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ct anatom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 levels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4760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undamental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, probe, strain,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n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developmenta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re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anatom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y,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,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ome Additional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ous, graded, regional, spott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in this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expression gra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ample, image, signal, prob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: How sure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Not Detected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but conf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ting not just to mak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tected’ does not = not ‘detected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alue 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, not detected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t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is a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 to prove absence of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rtions always subject to limits of current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When and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entral to gene expressio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the least understood of the basic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atomy Ontolog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Present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MOD / NESCent</cp:lastModifiedBy>
  <dcterms:modified xsi:type="dcterms:W3CDTF">2008-02-19T05:55:48Z</dcterms:modified>
  <cp:revision>38</cp:revision>
  <dc:subject/>
  <dc:title>Recording, Presenting and Querying Gene Expression Data</dc:title>
</cp:coreProperties>
</file>